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311-5E99-42F5-861B-A2F42DAE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834-6D18-4614-A4C1-5EBAFE9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BF8-AD15-46E5-9828-3CA15388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9E9-4C3B-4F9E-A3F5-2519D3FF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DD6-E812-4913-A7A6-27874CE3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7EE-0E4A-491C-AF64-DD2A9FFE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548-DE5F-4C0F-B07B-5B29BEF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182-D0F9-4BCC-B7C5-5E13096D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4A9-E4F4-4B0A-8EBF-8F2B0B68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060-892F-4401-ABD8-7764FB6E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800-C6B3-4045-9138-954A0E5A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43B-0B46-4F0D-ADDF-77F47A97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3E74-AF3B-4EBD-B91E-8E105160B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Baskerville Old Face"/>
              </a:rPr>
              <a:t>The Spaniards and the Pre-Columbian Civi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80060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(Aztecs, Mayas, In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Baskerville Old Face"/>
              </a:rPr>
              <a:t>by: Aud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바탕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ernard MT Condensed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y were polytheistic because they believed in many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ir leader was Montez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Lived in Central Mexico (Valley of Mexico). They were brought down by small pox which the Spaniards bro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Used people from other tribes as slaves an human sacri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rte"/>
              </a:rPr>
              <a:t>Their capital city was Tenochtitlan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1447920"/>
            <a:ext cx="2638440" cy="2114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9960" y="3581280"/>
            <a:ext cx="3624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nv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5880" y="5029200"/>
            <a:ext cx="2438640" cy="151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30480" y="4724280"/>
            <a:ext cx="173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angSong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Lived in Mexican coast (Yucatan Peninsula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They didn’t have much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They were polytheistic (believed in many god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uice ITC"/>
              </a:rPr>
              <a:t>It was harder for conquistadors to overthrow because there were many major c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2790720" cy="2124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62720" y="624852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nv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2857680" cy="146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91800" y="6172200"/>
            <a:ext cx="241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o.missouristat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agneto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3152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Lived in Peru, South America in the Andes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ir capital city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y were polytheistic (believed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y practiced animal sacrifice, on special occasions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SimSun"/>
              </a:rPr>
              <a:t>Their leader was Atahual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895480" cy="258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58128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uncp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18064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8320" y="4495680"/>
            <a:ext cx="190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ss.fullerto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Brush Script MT"/>
              </a:rPr>
              <a:t>Cort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He was a Spanish explorer and conquistad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Traveled with many men and horses to conquer the Aztec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The Aztecs thought Cortez was Quetzalcoatl, a god they believed 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1001"/>
              </a:spcBef>
              <a:buClr>
                <a:srgbClr val="336699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Blackadder ITC"/>
              </a:rPr>
              <a:t>Cortez tricked the Aztecs and took Montezuma hostage and was kill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331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taneo BT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He was a Spanish explorer and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Traveled with 180 men and 27 horses to conquer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Incas were fighting a civil war when Pizarro secretly captured their emperor, Atahualpa and was held for ran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Pizarro had wanted a room full of gold and he would return Atahual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lonna MT"/>
              </a:rPr>
              <a:t>He tricked them and eventually killed Atahualpa instead of returning hi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016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The Spanish explorers and conquistadors changed Central and South America forever by forcing them to speak Spanish and not their native language. They also forced them to change their cultur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3049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14:54Z</dcterms:created>
  <dc:creator>jklib</dc:creator>
  <dc:description/>
  <dc:language>en-US</dc:language>
  <cp:lastModifiedBy>jklib</cp:lastModifiedBy>
  <dcterms:modified xsi:type="dcterms:W3CDTF">2011-11-29T14:11:02Z</dcterms:modified>
  <cp:revision>4</cp:revision>
  <dc:subject/>
  <dc:title>The Spaniards and the Pre-Columbian Civilization </dc:title>
</cp:coreProperties>
</file>